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E78F-7AFF-4BA8-AFF5-0AE5D964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B82B-DD67-4284-AC69-30797445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F552-9AF6-427D-B86D-46E49E293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11A8-7F63-4B62-8D7B-9823E988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7B14-D905-47EB-9C65-B9633776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B409-DFE4-475A-B46C-50A473FB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D55E-3EDB-4DCE-AAFC-C05AE517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ED2B-E89A-41E4-B0E6-AD5526DA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2F53-280C-46EB-BA9F-9429C66A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4356-F1C8-4F74-90FF-48291847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F628-6B2D-4F35-A509-6AAD468A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0E0B-68F8-4C43-B048-0A65F387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48D9-E5CD-430F-894C-D1EFDA901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爱疼的声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简体\4. 救主愛疼的聲(台語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爱疼的声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简体\4. 救主愛疼的聲(台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爱疼的声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Documents and Settings\Administrator\桌面\主啊,誰人親像祢\简体\4. 救主爱疼的声(台语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爱疼的声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C:\Documents and Settings\Administrator\桌面\主啊,誰人親像祢\简体\4. 救主愛疼的聲(台語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5:1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