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CEA8D-24FC-44F0-8431-F736C874EA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497A7-36EE-4864-9F45-D778D0920B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9C13D-3731-4AB3-A60D-7B0AB8222C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把握今天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ize The Day 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em_today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把握今天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ize The Day 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em_today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49:54Z</dcterms:modified>
  <cp:revision>41</cp:revision>
  <dc:subject/>
  <dc:title>把握今天 Seize The Day</dc:title>
</cp:coreProperties>
</file>