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D67B-54B7-43F0-A075-CCF5CE8BD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383A-CE6F-4821-9571-6C1B063B6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443C-E5C7-44FB-8602-C658BF2E4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9889-DE0C-4E5C-BCDE-BD47E1D1D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最愛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est Love Of Mine  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1" descr="em_greatestlov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最愛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est Love Of Mine  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em_greatestlov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最愛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est Love Of Mine  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em_greatestlov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49:32Z</dcterms:modified>
  <cp:revision>50</cp:revision>
  <dc:subject/>
  <dc:title>我的最愛 Greatest Love Of Mine</dc:title>
</cp:coreProperties>
</file>