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2F9-8A2E-45F0-97C5-434B1FC4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A96C-5698-4D5D-A0CE-EFC15299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CA7-FCEF-4546-A152-429E5694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5F18-70CB-44C0-A92F-E33D71EB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EA9C-E46E-4048-9449-9B1CA1C2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C04-2096-440F-A89A-8D6A855B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117-40AD-485E-BE36-CD5D5DD1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B026-C5F8-4718-8876-3E66FE4F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1F3-EBE4-4164-8C17-C2B51DDB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7E4-938C-49DB-B85E-DC0EBC5B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92F-2FA6-49C5-BEC7-F2B64CD5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9F8C-C0DD-4544-BBD3-8EB4C78B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1468-FECE-4B38-8D0C-A424D17370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最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我的最爱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最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我的最爱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最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我的最爱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4:58:18Z</dcterms:modified>
  <cp:revision>4</cp:revision>
  <dc:subject/>
  <dc:title>幻灯片 1</dc:title>
</cp:coreProperties>
</file>