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1B0C-77F6-4BC9-A1B5-C2486AC5D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06D7-F7A3-4315-A96E-886B2E8D3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1945-0546-49CD-B149-0133B1BC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5A6A-7957-4D5B-8B1A-A424C9950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3" descr="e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Savior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01Z</dcterms:modified>
  <cp:revision>55</cp:revision>
  <dc:subject/>
  <dc:title>我的救主 My Savior</dc:title>
</cp:coreProperties>
</file>