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BE84-62D3-4B4E-A97B-43D776A95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6C7B-1551-4AC5-A6ED-55DB6BE82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5FB2-4EB2-4592-AA51-715E2A269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2F03-980D-4DFC-86FE-88074B802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4" descr="m_savio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m_savior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m_savior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50Z</dcterms:modified>
  <cp:revision>56</cp:revision>
  <dc:subject/>
  <dc:title>我的救主</dc:title>
</cp:coreProperties>
</file>