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C2BE-4913-445C-BF9F-B017793FA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DA16-7D15-4EC4-AD77-80BFFE404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DFAC-BB0D-4DB6-B43D-2FD8042D2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1EB8-3D0F-4CD0-9B58-C616586BD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A974-047D-4189-BD3E-2DFD6BE7A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DE55-0D49-4077-A849-9225043DF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25CF-E290-4728-AF8D-F34019F40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5697-EAA3-4417-8BED-570803D94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59A5-0540-4F85-BB55-AFEE48107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817E-FE02-4446-9698-3A56F355C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D4E8-3D4F-49B0-A18C-28C609FA7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0E6C-A821-46B1-969C-1832B7303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8BC6E-1865-404A-A1BC-2CDE471D13E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我的救主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/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1" descr="E:\music\诗歌\PPT\2\永远\我的救主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我的救主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/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1" descr="E:\music\诗歌\PPT\2\永远\我的救主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我的救主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/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1" descr="E:\music\诗歌\PPT\2\永远\我的救主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04:47:40Z</dcterms:created>
  <dc:creator>YYC</dc:creator>
  <dc:description/>
  <dc:language>en-US</dc:language>
  <cp:lastModifiedBy>微软用户</cp:lastModifiedBy>
  <dcterms:modified xsi:type="dcterms:W3CDTF">2010-06-13T15:02:03Z</dcterms:modified>
  <cp:revision>5</cp:revision>
  <dc:subject/>
  <dc:title>幻灯片 1</dc:title>
</cp:coreProperties>
</file>