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87EB-7D92-4554-95A9-972C96A4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BD4B-96F1-4825-BA7B-9F8D6644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48E8-5766-4C5A-8D0A-8E7D1AD3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3C46-DC88-4DFE-BDDB-C7E971F8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7C27-8293-4EAF-9EF9-BEAF2EB1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E93E-47C8-4F6A-B90E-CDF5602F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B9E-D8DA-4DFC-BF54-9CACC0E1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B25C-9A34-46B7-B579-12374D49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1978-20B6-4E03-A125-E5F5960F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4C43-E2D0-41A3-9A27-BEBF63D7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726F-353D-4998-9828-014BC7FF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2F73-662B-43D8-8049-448CDB05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6600-14E9-4779-9D6A-82F7071C0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我的幫助從何而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我的幫助從何而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我的幫助從何而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願神興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英\願神興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E:\圣洁活祭\繁英\願神興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 Liu</cp:lastModifiedBy>
  <dcterms:modified xsi:type="dcterms:W3CDTF">2023-03-27T22:30:4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