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B7E22-7DFA-4266-9C2D-197D47832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A2869-BC4E-4A8C-B50D-BCF4A26C9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4B040-76E0-498C-B1EA-E3380D738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89CCC-DDAA-446E-BBB7-998095518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E2D01-83A0-48C9-8561-964E7E285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18B75-259B-4328-B716-4CDC33AD6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0414C-5321-4BF4-B87B-B3F4EB31B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138EE-98A2-46E0-99C9-9EFF32959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9E0F6-D90F-4F65-AF14-4BC83F830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4D818-102E-42FA-ACB4-8912C23ED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09816-0D92-4ED0-8983-C2346FA2E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66549-8726-4527-AF66-540454796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9581E-15EF-4D5B-9618-5897A2A635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505320" y="6095520"/>
            <a:ext cx="2666880" cy="42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黑体"/>
                <a:ea typeface="黑体"/>
              </a:rPr>
              <a:t>我的幫助從何而來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/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E:\圣洁活祭\简体\我的幫助從何而來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505320" y="617220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黑体"/>
                <a:ea typeface="黑体"/>
              </a:rPr>
              <a:t>我的幫助從何而來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/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E:\圣洁活祭\简体\我的幫助從何而來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505320" y="617220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黑体"/>
                <a:ea typeface="黑体"/>
              </a:rPr>
              <a:t>我的幫助從何而來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3/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E:\圣洁活祭\简体\我的幫助從何而來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願神興起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/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E:\圣洁活祭\简体\願神興起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願神興起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/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" descr="E:\圣洁活祭\简体\願神興起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願神興起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3/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E:\圣洁活祭\简体\願神興起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endy Liu</cp:lastModifiedBy>
  <dcterms:modified xsi:type="dcterms:W3CDTF">2023-03-27T22:28:01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