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12D2-800C-4E4A-9920-F03638F8D1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51B4-5D39-4A6F-A0FC-FE3A02EEE5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5EB-5BAB-4E39-B208-6AF00A5D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308-BF97-47E2-BA04-85B9C5FA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CD0-BFC8-45F5-9E06-4B328360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8CD-2A1F-457E-858A-981C2D7F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39B-D451-48FB-AB0D-EF81B7FD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FFA-E51E-47D0-9F5A-DC2FDD74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DDA-941C-47C1-8850-67462D1A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5C8-437F-4850-85B7-380B1850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839-2DE3-4E26-B468-907EFD4F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A86-62E2-4524-BEF5-BCF333FB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015-FFB3-4F07-8ABA-2DF46C18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3D2-522F-4F56-8AAB-DC9703E7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C0D7-970E-48D6-93CB-C252404DF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0" name="Picture 2" descr="E:\music\诗歌\PPT\2\鼓舞\我的天父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:\music\诗歌\PPT\2\鼓舞\我的天父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E:\music\诗歌\PPT\2\鼓舞\我的天父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:\music\诗歌\PPT\2\鼓舞\我的天父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4T05:03:5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