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BEEC-00FF-4F13-BB77-818D1E614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F003-E11A-4BFB-BF3B-91DF0BE41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7966-130C-4AD1-8A36-72193F567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4419-EBBF-47CD-9584-074D64645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B62C-88B3-49EE-9D78-526968231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446E-B304-4B48-AE39-E0FCFE936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4713-48A9-431D-A482-430F2ED21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7B3B-30F5-460A-9622-925102567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491B-E3C6-4470-8147-FE6D93542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4FB8-9C91-4180-90BC-8D01AC091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6905-9F20-4A93-B150-240CE5E57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4E95-CD55-496A-9F06-0845B9703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3376F-1072-4165-A3C6-C0B812F267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我獻上自己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繁体\我獻上自己 (主,我願)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我獻上自己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繁体\我獻上自己 (主,我願)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我獻上自己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繁体\我獻上自己 (主,我願)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我獻上自己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E:\圣洁活祭\繁体\我獻上自己 (主,我願)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我獻上自己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5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E:\圣洁活祭\繁体\我獻上自己 (主,我願)\我獻上自己 (主,我願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YYC</dc:creator>
  <dc:description/>
  <dc:language>en-US</dc:language>
  <cp:lastModifiedBy>微软中国</cp:lastModifiedBy>
  <dcterms:modified xsi:type="dcterms:W3CDTF">2011-03-23T05:13:19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