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欲等候耶和華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欲等候耶和華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欲等候耶和華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欲等候耶和華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6:34:20Z</dcterms:modified>
  <cp:revision>11</cp:revision>
  <dc:subject/>
  <dc:title>我欲等候耶和華</dc:title>
</cp:coreProperties>
</file>