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730-2263-493B-8604-45814DA5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F22-B005-4F20-8C9A-D9909664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5CD-254C-4114-9156-44C8D365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281-21C1-4FEC-BD14-624EAC0A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64E-87B5-44EC-AAB2-72EC7638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1B7-7F4C-4905-A903-5B7259DA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906-5349-4337-A6E6-9320A4C6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1FA-DAEB-466E-BE0D-21D7BC5A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51A-DF57-4B72-BB6A-25AE787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A10-FBD4-4E1E-9A79-26C3B1E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AB3-4ECC-4888-B1C1-D674FEF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8A2-2027-4241-A14D-74A4D8B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6F1-BACB-405E-B6F9-B06D9B8C21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心属于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心属于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心属于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Wendy</cp:lastModifiedBy>
  <dcterms:modified xsi:type="dcterms:W3CDTF">2010-06-15T05:25:40Z</dcterms:modified>
  <cp:revision>5</cp:revision>
  <dc:subject/>
  <dc:title>幻灯片 1</dc:title>
</cp:coreProperties>
</file>