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CF2F-8A87-4C49-9BF6-4BA2D8F69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0594-1FD4-4EF2-BFD5-56D40EE28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81FE-3F96-4835-92EB-07551B88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6FAC-8D85-4C64-9D2D-43F143C97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98DC-373A-4515-B35A-ADB169E2B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Time To Praise The Lord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e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18Z</dcterms:modified>
  <cp:revision>62</cp:revision>
  <dc:subject/>
  <dc:title>我們來讚美主 It’s Time To Praise The Lord </dc:title>
</cp:coreProperties>
</file>