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1A01-DFCE-46FE-9668-DC21D0640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C44E-2311-4156-94EB-119621280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E800-DD97-4133-9A8A-28ABCD3A8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4063-E63E-41FE-AC3E-E2D481B45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77E3-2FF4-432A-8759-505DF7E7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m_itstim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itstime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itstime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們來讚美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_itstime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21Z</dcterms:modified>
  <cp:revision>62</cp:revision>
  <dc:subject/>
  <dc:title>我們來讚美主</dc:title>
</cp:coreProperties>
</file>