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DD3-FC87-4195-AFAC-5ABBDDDE8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686-DDAD-4593-942F-0941A528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EBD-8D0E-46B2-AEC5-F207A2DBF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3938-3112-415B-9D67-599C3651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855-4C08-4CA4-AAAD-93D85F17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D4F-48A1-4C4E-8422-7D18F2AE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042D-47D3-4995-9F48-DF8778D9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11AA-9FA3-4CFF-88A6-7FEDB228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604-B64E-4B29-881C-C5CC68B2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5E33-7E41-44C9-8BA4-1955CE8A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D09-E24F-44E8-BE2A-C7742BB9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3C83-B8AA-4281-99D8-4D7ABB72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B73D-A5EB-4D58-A267-B314D3CDBA2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们来赞美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们来赞美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们来赞美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们来赞美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我们来赞美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4:33Z</dcterms:modified>
  <cp:revision>4</cp:revision>
  <dc:subject/>
  <dc:title>幻灯片 1</dc:title>
</cp:coreProperties>
</file>