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1A2-9D4A-481F-B352-C459CBBF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55C-BB93-4E3A-B23B-A4E7088E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011-B427-49A9-8E26-A3B74749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395-A318-4E1A-BD5C-395BE966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244-1196-4124-9A79-2DFC5E75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DB1-7B33-4071-AFA1-2F44E3FE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681-B025-46B4-AD83-7CC1FC78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7BD-24E0-4F91-A5F6-6F842586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FBC-014D-4E04-ACC8-C1F74C3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1A5-B941-4BBD-BBEE-8832426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CD3-40F4-41F7-9540-1F5297A3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59B-AEB3-4B27-A413-B7D25FBD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3BEE-1AF8-4678-8D0D-3E3C2E975F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0:34Z</dcterms:modified>
  <cp:revision>5</cp:revision>
  <dc:subject/>
  <dc:title>幻灯片 1</dc:title>
</cp:coreProperties>
</file>