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C71-C862-4D85-9D7A-103F5BE8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4BF-7937-4372-8405-56936A4D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FB2-1D6C-4FBA-B67F-EE0BAA49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A91-0A55-4F2F-9BDD-9CF853FB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905-F692-4449-A345-AC8185C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069-79B2-471D-9184-D3164ED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DC1-42AD-40DB-8110-985AD7B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D91-2DF2-4E3A-98EE-979D0EC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37A-169D-41FB-929A-906069A2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53C-C5FF-4AB0-A0AE-40CFEE2F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656-4F9A-48EF-88E3-799E397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8CF-7908-4A93-8DD2-32CF6C0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B745-2DBE-4507-9D13-4E42E80CFF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尊贵荣耀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尊贵荣耀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尊贵荣耀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尊贵荣耀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8:59Z</dcterms:modified>
  <cp:revision>4</cp:revision>
  <dc:subject/>
  <dc:title>幻灯片 1</dc:title>
</cp:coreProperties>
</file>