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B1B1-8D74-4814-AED3-3A96A2FE4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8475-2BD0-42C1-A988-A970120C9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BA3F-EDC5-42A1-8AB1-5331ED237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C091-AD20-4145-8C13-C0C303B23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F831-A9B5-459C-8BB3-4E9B8A660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055B-66C1-427B-A844-D4195AD63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0A33-8805-43D8-BED0-69B115F55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52EA-27E6-4460-80E2-BFB6D397A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480"/>
            <a:ext cx="6857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9D24-A3CE-458F-A4D2-EA04D02B3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9FC0-05ED-42DE-8D2E-AF9A142D1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3A1B-4CD0-44A2-A9B3-F37EC1E23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4D99-659A-4C13-8F70-0EF466BC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4AAD7604-F6A1-4E6C-B163-267D600322A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45000" y="278136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8000" y="6453360"/>
            <a:ext cx="75960" cy="156600"/>
          </a:xfrm>
          <a:prstGeom prst="rect">
            <a:avLst/>
          </a:prstGeom>
          <a:solidFill>
            <a:srgbClr val="8c7549"/>
          </a:solidFill>
          <a:ln w="9360">
            <a:solidFill>
              <a:srgbClr val="90784a"/>
            </a:solidFill>
            <a:round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8c7549"/>
                </a:solidFill>
                <a:latin typeface="楷体"/>
                <a:ea typeface="楷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1"/>
          <p:cNvSpPr/>
          <p:nvPr/>
        </p:nvSpPr>
        <p:spPr>
          <a:xfrm>
            <a:off x="0" y="188640"/>
            <a:ext cx="914364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1500" spc="-1" strike="noStrike">
                <a:solidFill>
                  <a:srgbClr val="000000"/>
                </a:solidFill>
                <a:latin typeface="DFKai-SB"/>
                <a:ea typeface="DFKai-SB"/>
              </a:rPr>
              <a:t>寶座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3"/>
          <p:cNvSpPr/>
          <p:nvPr/>
        </p:nvSpPr>
        <p:spPr>
          <a:xfrm>
            <a:off x="0" y="2853000"/>
            <a:ext cx="9143640" cy="276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《寶座》專輯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詞曲</a:t>
            </a:r>
            <a:r>
              <a:rPr b="0" lang="en-US" sz="3500" spc="-1" strike="noStrike">
                <a:solidFill>
                  <a:srgbClr val="000000"/>
                </a:solidFill>
                <a:latin typeface="DFKai-SB"/>
                <a:ea typeface="DFKai-SB"/>
              </a:rPr>
              <a:t>:</a:t>
            </a: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林婉容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English Lyrics: Steven Nga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CCLI#719164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4"/>
          <p:cNvSpPr/>
          <p:nvPr/>
        </p:nvSpPr>
        <p:spPr>
          <a:xfrm>
            <a:off x="0" y="6400800"/>
            <a:ext cx="914364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3500" spc="-1" strike="noStrike">
                <a:solidFill>
                  <a:schemeClr val="accent1"/>
                </a:solidFill>
                <a:latin typeface="Arial"/>
                <a:ea typeface="宋体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5"/>
          <p:cNvSpPr/>
          <p:nvPr/>
        </p:nvSpPr>
        <p:spPr>
          <a:xfrm>
            <a:off x="366480" y="6550560"/>
            <a:ext cx="304776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7" name="文本框 2"/>
          <p:cNvSpPr/>
          <p:nvPr/>
        </p:nvSpPr>
        <p:spPr>
          <a:xfrm>
            <a:off x="0" y="2105640"/>
            <a:ext cx="9142920" cy="6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DFKai-SB"/>
                <a:ea typeface="DFKai-SB"/>
              </a:rPr>
              <a:t>The</a:t>
            </a:r>
            <a:r>
              <a:rPr b="1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r>
              <a:rPr b="1" lang="en-US" sz="3800" spc="-1" strike="noStrike">
                <a:solidFill>
                  <a:srgbClr val="000000"/>
                </a:solidFill>
                <a:latin typeface="DFKai-SB"/>
                <a:ea typeface="DFKai-SB"/>
              </a:rPr>
              <a:t>Thron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4"/>
          <p:cNvSpPr/>
          <p:nvPr/>
        </p:nvSpPr>
        <p:spPr>
          <a:xfrm>
            <a:off x="0" y="477000"/>
            <a:ext cx="9143640" cy="51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天上有個榮耀的寶座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In</a:t>
            </a: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 the heav'nly realm there is a throne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其上坐著亙古常在者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On it sits the Ancient of Days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威嚴 尊貴 公義 慈愛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Awesome, mighty, flowing with grace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4"/>
          <p:cNvSpPr/>
          <p:nvPr/>
        </p:nvSpPr>
        <p:spPr>
          <a:xfrm>
            <a:off x="0" y="6400800"/>
            <a:ext cx="914364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3500" spc="-1" strike="noStrike">
                <a:solidFill>
                  <a:schemeClr val="accent1"/>
                </a:solidFill>
                <a:latin typeface="Arial"/>
                <a:ea typeface="宋体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2"/>
          <p:cNvSpPr/>
          <p:nvPr/>
        </p:nvSpPr>
        <p:spPr>
          <a:xfrm>
            <a:off x="0" y="6380640"/>
            <a:ext cx="140436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3"/>
          <p:cNvSpPr/>
          <p:nvPr/>
        </p:nvSpPr>
        <p:spPr>
          <a:xfrm>
            <a:off x="7637760" y="6373440"/>
            <a:ext cx="150588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寶座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/6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8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4"/>
          <p:cNvSpPr/>
          <p:nvPr/>
        </p:nvSpPr>
        <p:spPr>
          <a:xfrm>
            <a:off x="0" y="548640"/>
            <a:ext cx="9143640" cy="55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天使天軍侍立寶座前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GungsuhChe"/>
              </a:rPr>
              <a:t>And</a:t>
            </a: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GungsuhChe"/>
              </a:rPr>
              <a:t> a host of angels at His throne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聽祂命令 遵行祂旨意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GungsuhChe"/>
              </a:rPr>
              <a:t>Carry out His will and sing Him praise,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俯伏敬拜 晝夜不停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GungsuhChe"/>
              </a:rPr>
              <a:t>Humbly serving through night and day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4"/>
          <p:cNvSpPr/>
          <p:nvPr/>
        </p:nvSpPr>
        <p:spPr>
          <a:xfrm>
            <a:off x="0" y="6400800"/>
            <a:ext cx="914364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3500" spc="-1" strike="noStrike">
                <a:solidFill>
                  <a:schemeClr val="accent1"/>
                </a:solidFill>
                <a:latin typeface="Arial"/>
                <a:ea typeface="宋体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2"/>
          <p:cNvSpPr/>
          <p:nvPr/>
        </p:nvSpPr>
        <p:spPr>
          <a:xfrm>
            <a:off x="0" y="6380640"/>
            <a:ext cx="140436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3"/>
          <p:cNvSpPr/>
          <p:nvPr/>
        </p:nvSpPr>
        <p:spPr>
          <a:xfrm>
            <a:off x="7637760" y="6373440"/>
            <a:ext cx="150588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寶座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/6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4"/>
          <p:cNvSpPr/>
          <p:nvPr/>
        </p:nvSpPr>
        <p:spPr>
          <a:xfrm>
            <a:off x="0" y="477000"/>
            <a:ext cx="91436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聖哉 聖哉 聖哉 聖哉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Holy, holy, holy, hol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聖哉 聖哉 聖哉 聖哉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Holy,</a:t>
            </a: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 holy, holy, hol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4"/>
          <p:cNvSpPr/>
          <p:nvPr/>
        </p:nvSpPr>
        <p:spPr>
          <a:xfrm>
            <a:off x="0" y="6400800"/>
            <a:ext cx="914364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3500" spc="-1" strike="noStrike">
                <a:solidFill>
                  <a:schemeClr val="accent1"/>
                </a:solidFill>
                <a:latin typeface="Arial"/>
                <a:ea typeface="宋体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2"/>
          <p:cNvSpPr/>
          <p:nvPr/>
        </p:nvSpPr>
        <p:spPr>
          <a:xfrm>
            <a:off x="0" y="6380640"/>
            <a:ext cx="140436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3"/>
          <p:cNvSpPr/>
          <p:nvPr/>
        </p:nvSpPr>
        <p:spPr>
          <a:xfrm>
            <a:off x="7637760" y="6373440"/>
            <a:ext cx="150588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寶座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3/6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4"/>
          <p:cNvSpPr/>
          <p:nvPr/>
        </p:nvSpPr>
        <p:spPr>
          <a:xfrm>
            <a:off x="0" y="405000"/>
            <a:ext cx="9143640" cy="55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聖所的幔子已經裂開 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Now</a:t>
            </a: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 the temple veil in two has split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帶著羔羊寶血近前來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And the blood of Christ for all has flowed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稱謝讚美 直到永遠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Glory, honor, worship and praise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4"/>
          <p:cNvSpPr/>
          <p:nvPr/>
        </p:nvSpPr>
        <p:spPr>
          <a:xfrm>
            <a:off x="0" y="6400800"/>
            <a:ext cx="914364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3500" spc="-1" strike="noStrike">
                <a:solidFill>
                  <a:schemeClr val="accent1"/>
                </a:solidFill>
                <a:latin typeface="Arial"/>
                <a:ea typeface="宋体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2"/>
          <p:cNvSpPr/>
          <p:nvPr/>
        </p:nvSpPr>
        <p:spPr>
          <a:xfrm>
            <a:off x="0" y="6380640"/>
            <a:ext cx="140436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3"/>
          <p:cNvSpPr/>
          <p:nvPr/>
        </p:nvSpPr>
        <p:spPr>
          <a:xfrm>
            <a:off x="7637760" y="6373440"/>
            <a:ext cx="150588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寶座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4/6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2"/>
          <p:cNvSpPr/>
          <p:nvPr/>
        </p:nvSpPr>
        <p:spPr>
          <a:xfrm>
            <a:off x="0" y="6380640"/>
            <a:ext cx="140436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3"/>
          <p:cNvSpPr/>
          <p:nvPr/>
        </p:nvSpPr>
        <p:spPr>
          <a:xfrm>
            <a:off x="7637760" y="6373440"/>
            <a:ext cx="150588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寶座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5/6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4"/>
          <p:cNvSpPr/>
          <p:nvPr/>
        </p:nvSpPr>
        <p:spPr>
          <a:xfrm>
            <a:off x="0" y="477000"/>
            <a:ext cx="91436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與基督藏在神的裡面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Now</a:t>
            </a: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 my life with Christ in God is hid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ungsuhChe"/>
                <a:ea typeface="GungsuhChe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坐在高天瞻仰祂容顏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And my God in heaven I'll behold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聆聽主心 傳祂旨意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Know His goodness, tell of His ways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4"/>
          <p:cNvSpPr/>
          <p:nvPr/>
        </p:nvSpPr>
        <p:spPr>
          <a:xfrm>
            <a:off x="0" y="6400800"/>
            <a:ext cx="914364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3500" spc="-1" strike="noStrike">
                <a:solidFill>
                  <a:schemeClr val="accent1"/>
                </a:solidFill>
                <a:latin typeface="Arial"/>
                <a:ea typeface="宋体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文本框 4"/>
          <p:cNvSpPr/>
          <p:nvPr/>
        </p:nvSpPr>
        <p:spPr>
          <a:xfrm>
            <a:off x="0" y="205200"/>
            <a:ext cx="9130320" cy="453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興起啊 君尊的祭司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GungsuhChe"/>
              </a:rPr>
              <a:t>Rise up, a nation of our God!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興起啊 聖潔的國度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GungsuhChe"/>
              </a:rPr>
              <a:t>Rise up, a priesthood of our King!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在萬邦宣揚祂的榮美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GungsuhChe"/>
              </a:rPr>
              <a:t>Forever His mighty deeds proclai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向萬代傳揚祂的作為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GungsuhChe"/>
              </a:rPr>
              <a:t>Declaring the the glory of His name!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4"/>
          <p:cNvSpPr/>
          <p:nvPr/>
        </p:nvSpPr>
        <p:spPr>
          <a:xfrm>
            <a:off x="0" y="6400800"/>
            <a:ext cx="914364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3500" spc="-1" strike="noStrike">
                <a:solidFill>
                  <a:schemeClr val="accent1"/>
                </a:solidFill>
                <a:latin typeface="Arial"/>
                <a:ea typeface="宋体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2"/>
          <p:cNvSpPr/>
          <p:nvPr/>
        </p:nvSpPr>
        <p:spPr>
          <a:xfrm>
            <a:off x="0" y="6380640"/>
            <a:ext cx="140436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副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3"/>
          <p:cNvSpPr/>
          <p:nvPr/>
        </p:nvSpPr>
        <p:spPr>
          <a:xfrm>
            <a:off x="7637760" y="6373440"/>
            <a:ext cx="150588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寶座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6/6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默认设计模板">
  <a:themeElements>
    <a:clrScheme name="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9edee"/>
      </a:accent5>
      <a:accent6>
        <a:srgbClr val="2d2d89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  <Words>432</Words>
  <Paragraphs>9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13T07:18:00Z</dcterms:created>
  <dc:creator>Administrator</dc:creator>
  <dc:description/>
  <dc:language>en-US</dc:language>
  <cp:lastModifiedBy>Wendy Liu</cp:lastModifiedBy>
  <dcterms:modified xsi:type="dcterms:W3CDTF">2023-10-28T05:16:08Z</dcterms:modified>
  <cp:revision>15</cp:revision>
  <dc:subject/>
  <dc:title>_x005F_x000b_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FC17D9D53E2446AFAA3B231C385A6FFD_12</vt:lpwstr>
  </property>
  <property fmtid="{D5CDD505-2E9C-101B-9397-08002B2CF9AE}" pid="3" name="KSOProductBuildVer">
    <vt:lpwstr>2052-11.1.0.14036</vt:lpwstr>
  </property>
  <property fmtid="{D5CDD505-2E9C-101B-9397-08002B2CF9AE}" pid="4" name="Notes">
    <vt:r8>1</vt:r8>
  </property>
  <property fmtid="{D5CDD505-2E9C-101B-9397-08002B2CF9AE}" pid="5" name="PresentationFormat">
    <vt:lpwstr>On-screen Show (4:3)</vt:lpwstr>
  </property>
  <property fmtid="{D5CDD505-2E9C-101B-9397-08002B2CF9AE}" pid="6" name="Slides">
    <vt:r8>7</vt:r8>
  </property>
</Properties>
</file>