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192-C723-4FA4-A35A-869786F1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5E6-3BDC-486D-B79E-CDA7FDCC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824-89B8-458D-8DC0-341F7BBA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42F4-3F10-4541-A5BA-790A6BAB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1BD-0160-45C7-95BD-519AA9DE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8C76-9CEC-4EED-BC8D-2A6FB4D7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70C-0A14-4F65-8AC3-0B713D84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359-398E-44B7-9BD9-E35B5C6B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7EC-73DA-4438-A35D-4A1D1534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544E-CE9A-4AFC-87FE-FAAB95CC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6D5B-71F9-49E9-BB07-8653512F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45BB-485A-44DF-BA48-0620501E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B598EDF-974E-47E5-9E9C-018D0E2773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548640"/>
            <a:ext cx="914364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DFKai-SB"/>
                <a:ea typeface="DFKai-SB"/>
              </a:rPr>
              <a:t>寶座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277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188640"/>
            <a:ext cx="91436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上有個榮耀的寶座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其上坐著亙古常在者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威嚴 尊貴 公義 慈愛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使天軍侍立寶座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聽祂命令 遵行祂旨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俯伏敬拜 晝夜不停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7615080" y="638244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137844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聖哉 聖哉 聖哉 聖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聖哉 聖哉 聖哉 聖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7615080" y="638244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18864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聖所的幔子已經裂開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帶著羔羊寶血近前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稱謝讚美 直到永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基督藏在神的裡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坐在高天瞻仰祂容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聆聽主心 傳祂旨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7615080" y="638244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615080" y="638244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0" y="452880"/>
            <a:ext cx="914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興起啊 君尊的祭司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興起啊 聖潔的國度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萬邦宣揚祂的榮美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向萬代傳揚祂的作為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0" y="6382440"/>
            <a:ext cx="20804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  <Words>238</Words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20:14Z</dcterms:modified>
  <cp:revision>10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