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如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如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如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如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如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-3,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0:30Z</dcterms:modified>
  <cp:revision>20</cp:revision>
  <dc:subject/>
  <dc:title>如果</dc:title>
</cp:coreProperties>
</file>