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AB1-669F-4E93-955A-2BD7F128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3E8-C883-4B98-BF50-4FE80B64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BAC-0FE8-4550-A7B4-49668435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808-F792-4343-BD9B-59C96436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15D-DF95-468C-B9B8-01EFE558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5A9-F577-4FF7-B05B-E06808C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3A4-8C37-487E-A8C3-3114A20B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BF6-BD29-43C1-98AE-262C205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608-3CE0-4838-A656-52FCF488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ACB-E1A8-48E6-9ED6-E761CEB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38F-7AE7-4192-9E3E-1CD6644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804-BE1E-490D-98A2-D7EF1D07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4099F9F-5A01-49DF-8F4A-B3D7C7F6BC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837000"/>
            <a:ext cx="91436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CHRIST LIVING IN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31572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21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have breathed the breath of life inside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Spirit dwells within, transforming my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 by faith, You've purified me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es, by faith, You've justified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To my sins, I'm captive no mor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the pow'r of Christ sets me fre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t's no longer I who liv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But it is Christ, living in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477000"/>
            <a:ext cx="91436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Shining out Your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glorious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iving out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bountiful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276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20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