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D03B-B45B-476F-9231-9CA8983A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4820-7DB9-4970-9F20-72DBF212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5DFD-3189-403A-AE74-45972D72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75CA-1E45-4951-A813-69F28661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22E0-9DE9-4613-9DE4-68C87095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0558-330D-453E-8D96-8CBB7D66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AF51-E5BE-4B14-A8F8-412E29FE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6EB8-61B7-4A8F-81F8-D39367CD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5F17-F5F9-4E7B-86C2-8E1D32B6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45EF-2DC7-4969-B38B-C7BBCF27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7DC5-71B9-4075-996A-12B6C751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EDDB-68F3-4057-AC30-B94F3634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914FF76-AB1A-4EDB-B3DF-CB2BCD2EF4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-35640" y="1161360"/>
            <a:ext cx="914436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7000" spc="-1" strike="noStrike">
                <a:solidFill>
                  <a:srgbClr val="000000"/>
                </a:solidFill>
                <a:latin typeface="DFKai-SB"/>
                <a:ea typeface="DFKai-SB"/>
              </a:rPr>
              <a:t>基督在我裏面活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720" y="2853000"/>
            <a:ext cx="914364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劉安淑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6398280" y="6414840"/>
            <a:ext cx="2745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200" spc="-1" strike="noStrike">
                <a:solidFill>
                  <a:schemeClr val="accent4"/>
                </a:solidFill>
                <a:latin typeface="楷体"/>
                <a:ea typeface="楷体"/>
              </a:rPr>
              <a:t>基督在我裏面活</a:t>
            </a: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1/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873000"/>
            <a:ext cx="914364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的氣息吹入我的身體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基督的生命在我裏面成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因著信 我已得潔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因著信 我已得稱義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0" y="6413040"/>
            <a:ext cx="1717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945360"/>
            <a:ext cx="914436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基督裏我得釋放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使我脫離罪惡捆綁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如今活著不再是我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乃是基督在我裏面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6"/>
          <p:cNvSpPr/>
          <p:nvPr/>
        </p:nvSpPr>
        <p:spPr>
          <a:xfrm>
            <a:off x="0" y="6413040"/>
            <a:ext cx="1717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"/>
          <p:cNvSpPr/>
          <p:nvPr/>
        </p:nvSpPr>
        <p:spPr>
          <a:xfrm>
            <a:off x="6398280" y="6414840"/>
            <a:ext cx="2745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200" spc="-1" strike="noStrike">
                <a:solidFill>
                  <a:schemeClr val="accent4"/>
                </a:solidFill>
                <a:latin typeface="楷体"/>
                <a:ea typeface="楷体"/>
              </a:rPr>
              <a:t>基督在我裏面活</a:t>
            </a: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2/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-720" y="945360"/>
            <a:ext cx="916776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活出祢榮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如明光照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活出祢慈愛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這個時代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6"/>
          <p:cNvSpPr/>
          <p:nvPr/>
        </p:nvSpPr>
        <p:spPr>
          <a:xfrm>
            <a:off x="0" y="6413040"/>
            <a:ext cx="1717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6398280" y="6414840"/>
            <a:ext cx="2745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200" spc="-1" strike="noStrike">
                <a:solidFill>
                  <a:schemeClr val="accent4"/>
                </a:solidFill>
                <a:latin typeface="楷体"/>
                <a:ea typeface="楷体"/>
              </a:rPr>
              <a:t>基督在我裏面活</a:t>
            </a: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3/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  <Words>184</Words>
  <Paragraphs>5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8:37Z</dcterms:modified>
  <cp:revision>10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4</vt:r8>
  </property>
</Properties>
</file>