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4EF-04CD-4DBE-8443-FB9EF42E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BCC-342C-476A-B3A1-C2E5DE80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07F-B8F6-4D01-A03A-62A8A001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3A1-9348-4697-81E3-C33AD5C2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69A-EB82-459F-A78A-BD5235DB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93B-503B-4AE4-8371-4C9A83E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FF9-E47F-4C07-B6C5-55ECA84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851-5AB7-4853-AA97-F95D9473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61E-6072-439D-8AB9-1217F70C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238-65BA-4EAF-92F7-F9271EA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8413-CF6E-4351-88A5-7AC8BFC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143-A97B-4B0C-9890-F35B71B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C37FC53-2354-479D-A77F-406A118C33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548640"/>
            <a:ext cx="9149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712600"/>
            <a:ext cx="9144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5640" y="2205360"/>
            <a:ext cx="91245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MY HEART CALLS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720" y="261000"/>
            <a:ext cx="91443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you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261000"/>
            <a:ext cx="914364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I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152280"/>
            <a:ext cx="914364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45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 I've beheld your handsome f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your skin like ivory and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You have healed my changing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Now it beats as one with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007400" y="6381000"/>
            <a:ext cx="2136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152280"/>
            <a:ext cx="914364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Has my heart been set af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it's forged a love to end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 can rest my wandering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O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my glorious beautiful gr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-5040" y="405000"/>
            <a:ext cx="91486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-7560" y="981000"/>
            <a:ext cx="91504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舒拉密女你回來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, my bride, O Shulamite, my bri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! 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6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  <Words>5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42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