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DC13-44A1-4B1E-B057-C5F25ABB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E7B-948E-4B29-806D-B349A429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C39-3FAE-47AF-90A2-458BC1B3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47EE-C1D5-4B13-9A0B-58E24C2F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452C-5E7A-426F-9FD2-FF47CBA6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7233-9462-47D1-A523-799B428F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2CE0-5D3C-4EB2-838D-462A17D6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16C5-26AE-47FC-8BBF-45146A3E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4F88-6789-4893-A6E5-E40754EB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B6F-BFD1-4765-9200-82A8B210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0082-D403-4877-A29F-EAEEE391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DD3-FE42-487A-96EE-DB6D7F2B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3744C14-79C6-4330-8B3C-BBC33E9AE3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" y="2493000"/>
            <a:ext cx="9150120" cy="2662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27360" y="908640"/>
            <a:ext cx="910476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喚醒愛情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35640" y="2467080"/>
            <a:ext cx="9142920" cy="24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甜心麥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9144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1560240" y="5419800"/>
            <a:ext cx="1801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914400"/>
            <a:ext cx="9143640" cy="40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千萬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不願再流離不再失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歸回關鎖園中 歸回封閉的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你安息之所我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914400"/>
            <a:ext cx="914364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千萬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不願再流離不再失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歸回關鎖園中 歸回封閉的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你安息之所我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981000"/>
            <a:ext cx="9143640" cy="49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</a:t>
            </a: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我看到了你面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那榮美 榮美的身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我觸摸了你的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那奇妙 天國的心跳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981000"/>
            <a:ext cx="91436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你燃燒了我的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那濃烈 堅韌的愛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你降服了我的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我榮耀 美麗的新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4"/>
          <p:cNvSpPr/>
          <p:nvPr/>
        </p:nvSpPr>
        <p:spPr>
          <a:xfrm>
            <a:off x="0" y="91440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思念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思念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合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"/>
          <p:cNvSpPr/>
          <p:nvPr/>
        </p:nvSpPr>
        <p:spPr>
          <a:xfrm>
            <a:off x="0" y="98100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新婦 新婦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舒拉密女你回來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4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你回來 你回來 你回來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  <Words>351</Words>
  <Paragraphs>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8:22Z</dcterms:modified>
  <cp:revision>14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7</vt:r8>
  </property>
</Properties>
</file>