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98A8-066A-4FFE-A5AB-5363C83B4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31B8-3AFB-47F1-8955-3DF8E507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7261-4E8D-4312-8007-ACF017218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3FF0-B73B-47C7-AC7C-29C41B930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9D35-A998-4148-B967-559CC8CE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2336-04C5-427A-B4D6-13E7392C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28B2-D7EA-4589-B6A8-5E3901B5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7598-BD4D-4FDA-988E-A3BEA327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0B96-796B-4BDB-9FE1-0F571666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9460-65A7-457D-BF52-82AE3AB5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D6E1-EA82-4A88-B032-0B25F629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D89C-2CDA-4F7B-98C7-12D9C1CC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56A8F7D6-9FAA-428D-AF88-3AAEC4A3113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1"/>
          <p:cNvSpPr/>
          <p:nvPr/>
        </p:nvSpPr>
        <p:spPr>
          <a:xfrm>
            <a:off x="9360" y="548640"/>
            <a:ext cx="914868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7000" spc="-1" strike="noStrike">
                <a:solidFill>
                  <a:srgbClr val="000000"/>
                </a:solidFill>
                <a:latin typeface="DFKai-SB"/>
                <a:ea typeface="DFKai-SB"/>
              </a:rPr>
              <a:t>唱響這時代的呼聲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DFKai-SB"/>
                <a:ea typeface="DFKai-SB"/>
              </a:rPr>
              <a:t>SOUND THE CR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3"/>
          <p:cNvSpPr/>
          <p:nvPr/>
        </p:nvSpPr>
        <p:spPr>
          <a:xfrm>
            <a:off x="720" y="2133000"/>
            <a:ext cx="914292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林婉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English Lyrics: Steven Nga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CCLI#719164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360" y="6419160"/>
            <a:ext cx="9134280" cy="35208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楷体"/>
                <a:ea typeface="楷体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47" name="文本框 3"/>
          <p:cNvSpPr/>
          <p:nvPr/>
        </p:nvSpPr>
        <p:spPr>
          <a:xfrm>
            <a:off x="6012360" y="6413040"/>
            <a:ext cx="31316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唱響這時代的呼聲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1/5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4"/>
          <p:cNvSpPr/>
          <p:nvPr/>
        </p:nvSpPr>
        <p:spPr>
          <a:xfrm>
            <a:off x="0" y="685800"/>
            <a:ext cx="9143640" cy="52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諾亞的日子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In the days of Noah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人們照常吃喝嫁娶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Wicked men were making merr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直到洪水把他們都冲去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Till the flood cam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And brought judgment to them all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3" name="文本框 3"/>
          <p:cNvSpPr/>
          <p:nvPr/>
        </p:nvSpPr>
        <p:spPr>
          <a:xfrm>
            <a:off x="6012360" y="6413040"/>
            <a:ext cx="31316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唱響這時代的呼聲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2/5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4"/>
          <p:cNvSpPr/>
          <p:nvPr/>
        </p:nvSpPr>
        <p:spPr>
          <a:xfrm>
            <a:off x="0" y="685800"/>
            <a:ext cx="9143640" cy="42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約拿的日子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In the days of Jonah,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人們分不清對和錯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Man could not tell right from wrong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直到聽見神僕人的呼籲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Till they heeded Your holy servant's call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4"/>
          <p:cNvSpPr/>
          <p:nvPr/>
        </p:nvSpPr>
        <p:spPr>
          <a:xfrm>
            <a:off x="0" y="609480"/>
            <a:ext cx="91436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沒有人傳</a:t>
            </a:r>
            <a:r>
              <a:rPr b="0" lang="en-US" sz="5300" spc="-1" strike="noStrike">
                <a:solidFill>
                  <a:srgbClr val="000000"/>
                </a:solidFill>
                <a:latin typeface="DFKai-SB"/>
                <a:ea typeface="DFKai-SB"/>
              </a:rPr>
              <a:t> 怎能聽見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Who will hear You with no preaching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沒有聽見 怎能相信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Who will know You with no teaching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怎能求告主名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Who will call on Your nam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DFKai-SB"/>
                <a:ea typeface="DFKai-SB"/>
              </a:rPr>
              <a:t>(2X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前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3"/>
          <p:cNvSpPr/>
          <p:nvPr/>
        </p:nvSpPr>
        <p:spPr>
          <a:xfrm>
            <a:off x="6013440" y="6413040"/>
            <a:ext cx="313020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唱響這時代的呼聲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3/5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3"/>
          <p:cNvSpPr/>
          <p:nvPr/>
        </p:nvSpPr>
        <p:spPr>
          <a:xfrm>
            <a:off x="6013440" y="6413040"/>
            <a:ext cx="313020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唱響這時代的呼聲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4/5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4"/>
          <p:cNvSpPr/>
          <p:nvPr/>
        </p:nvSpPr>
        <p:spPr>
          <a:xfrm>
            <a:off x="0" y="457200"/>
            <a:ext cx="9143640" cy="57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主啊膏抹我 使用我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Lord, anoint me! Make use of me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唱響這時代的呼聲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Calling back the dead unto life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主啊膏抹我 使用我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Lord, anoint me! Make use of me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唱響這時代的呼聲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Send me in to sound the cry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3"/>
          <p:cNvSpPr/>
          <p:nvPr/>
        </p:nvSpPr>
        <p:spPr>
          <a:xfrm>
            <a:off x="6012360" y="6413040"/>
            <a:ext cx="31316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唱響這時代的呼聲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5/5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4"/>
          <p:cNvSpPr/>
          <p:nvPr/>
        </p:nvSpPr>
        <p:spPr>
          <a:xfrm>
            <a:off x="0" y="609480"/>
            <a:ext cx="914364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時候將到 現在就是了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Soon will come a time, 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and the time is come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死人要聽見神兒子的聲音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When the dead shall hear the voice of th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Son of Go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就要活了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And have new life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橋段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  <Words>404</Words>
  <Paragraphs>8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3:17Z</dcterms:modified>
  <cp:revision>12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6</vt:r8>
  </property>
</Properties>
</file>