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C92-3770-4A66-B7F2-9517ADC3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874B-27E2-4591-AA1A-90B63EF8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C8E-22F8-4D08-9331-988CD23EB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FCA-A285-4AC6-8F62-53017737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381-A88C-47F8-B3F9-943699A1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90E-F8E1-4FEE-BA31-8C117D9F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F891-FBCD-4D84-A97B-D1943930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302-BC4A-4140-850B-FDEEACBA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9006-B8A2-4A04-AC0C-6E2A81A4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532-45FA-45EA-9B37-8F612EE7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C48-E049-4A9A-8E29-81B48B37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391B-C6A4-490C-A8F6-BBF5D4C8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5CCF-F5F3-4C2C-BE40-99977E5002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亚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E:\music\诗歌\PPT\2\愿你的国降临\哈利路亚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6:11Z</dcterms:modified>
  <cp:revision>7</cp:revision>
  <dc:subject/>
  <dc:title>幻灯片 1</dc:title>
</cp:coreProperties>
</file>