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3F51-7CD0-4462-9EF3-CFB13DF96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C917-4875-4DE1-8403-8E186489F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0347-6093-4FB0-BD97-3F660003C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6707-6FD5-4DEF-AB7C-C0D05E29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1AE8-D29C-49D5-9A31-B9271409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F18A-4980-44A6-BF89-263CC132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555B-E7CF-459D-8222-9DEA55B1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89FA-EE49-4996-B772-702224CC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488-B01F-439F-964F-B8003BEF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508C-748F-42C7-A112-5F8981E1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D6E-8AF3-402B-AF1A-58BB1304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7AC-3B13-4E6E-A64E-CBC5441E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98C9-12DC-4B9E-AC00-8D6D105D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F20B-3E1E-4DD4-958D-B10C3253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1121-4506-4A60-BB6C-41AA70E1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42D0-F36C-40B9-8A82-92FA2CCF4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哈利路亞（袮真實奇妙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Praise You, Lord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哈利路亞（袮真實奇妙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哈利路亞（袮真實奇妙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Praise You, Lord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Documents and Settings\Administrator\桌面\再次将我更新\繁体中英PPT\哈利路亞（袮真實奇妙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2:2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