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491-300F-4FD6-A9D7-69576159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FB7C-FC8D-4551-B5E9-8FDB0C16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8579-FFFB-4454-87DC-42C6BA514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3FE-7282-44C5-BB48-C05D2E2B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59DB-1708-4339-9DB5-AD1517F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391-7792-4FCE-B959-6FF5C397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585-2783-4FF2-8F3E-A945454B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3D9-EF52-4925-9D8A-872DA1F6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E21-3B8C-4B9D-83F1-95224A8F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7E7-AF10-4B96-A0B1-FEEAEA3E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1680-B2FE-431D-82B8-1771301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1ED-E3AD-4AF4-AA64-415C6B2F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7B94-017B-436C-A991-AE70775BCB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哈利路，主我神作王了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哈利路，主我神作王了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哈利路！主我神作王了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哈利路，主我神作王了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5:59Z</dcterms:modified>
  <cp:revision>4</cp:revision>
  <dc:subject/>
  <dc:title>幻灯片 1</dc:title>
</cp:coreProperties>
</file>