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212-03F9-41A4-A81D-691A9697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4AB-1034-4F42-B25D-4DDA31D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ABA-85B7-4E4E-82EB-FF5C6DD8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403-7D5B-4F1A-A11B-A9492D6C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4E9-1D46-411D-B6E5-2ECFABD1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DAA-2546-4141-8895-7B953B92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AAE-2436-4AFD-BF80-78458F5E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934-B476-4CB9-8BB5-990E607E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FC2-366A-4B56-A015-2FDF45C6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1F1-BDFB-434F-8FCF-CB0F20A5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1B1-8C2D-4766-81C6-2E41ACA1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318-10E9-480B-88FF-ED20A68D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A20FF85-ED04-4E3C-8EA2-8DD3F25E20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47700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493000"/>
            <a:ext cx="914364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0" y="213300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LL STILL BELIE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3808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Eternal, pure and holy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who can claim to know His ways?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172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838080"/>
            <a:ext cx="9143640" cy="49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533520"/>
            <a:ext cx="914364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Even faced with death, I'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For I know He can deliver me,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but should He not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Unto His name all glory b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I wi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838080"/>
            <a:ext cx="9143640" cy="53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Creator and Sustainer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can prevail against His way? Oh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,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73" name="文本框 4"/>
          <p:cNvSpPr/>
          <p:nvPr/>
        </p:nvSpPr>
        <p:spPr>
          <a:xfrm>
            <a:off x="0" y="838080"/>
            <a:ext cx="914364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"/>
          <p:cNvSpPr/>
          <p:nvPr/>
        </p:nvSpPr>
        <p:spPr>
          <a:xfrm>
            <a:off x="0" y="380880"/>
            <a:ext cx="914364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od alone is strong to sav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steadfast love is sur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e's the same in every ag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faithfulness endure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  <Words>469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2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