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A12B-877A-49A3-B0D4-00C666BB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D5B-8499-488D-BFE2-D9B4C879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5F2-A821-4C7C-85F9-BE222062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FA79-EA94-4AD2-8FED-8A795163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F270-89B0-4194-B25F-1EA32C0B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4AD5-B9A3-4EED-AED7-5B5040F9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313-4560-49B7-97EE-94B4A160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6EF4-4C3E-4DC2-9FDC-AE1C76D9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E039-537F-4C65-9984-7424EC0F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79C7-B1D0-481F-97AE-76E0EC86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9584-4090-40F0-8D62-DA575C3D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E619-A877-4219-96BC-34F3D067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AFE70A7-5682-4D65-A2C4-6523B5D007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0" y="54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即或不然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0" y="2133000"/>
            <a:ext cx="914364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21600" y="548640"/>
            <a:ext cx="914220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自有永有 至聖至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誰能尋見 祂的蹤跡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作為完全 良善正直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祂裏面 毫無不義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4"/>
          <p:cNvSpPr/>
          <p:nvPr/>
        </p:nvSpPr>
        <p:spPr>
          <a:xfrm>
            <a:off x="9360" y="837000"/>
            <a:ext cx="913428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烈火窯中 我仍要相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神必拯救我脫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即或不然 我仍要尊榮祂聖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尊榮祂聖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548640"/>
            <a:ext cx="916380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說有就有 命立就立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誰能抵擋 祂的旨意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作為完全 良善正直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祂裏面 毫無不義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908640"/>
            <a:ext cx="914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神 祂不休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愛不離不棄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神 永不改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信實直到永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0" y="6382440"/>
            <a:ext cx="20804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  <Words>254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7:20Z</dcterms:modified>
  <cp:revision>13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