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F7E68-611E-4FF5-85B2-052F80394A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9C7F0-DC9A-46D5-B3BA-80D0704553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1F778-7844-4C32-A31E-0697F6C4E8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15BCB-9E83-489E-91DE-C97AE86745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30CC-BA67-4A10-BB14-E2EAC7B64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7F5B-4C39-4E9F-B9C6-E337F2BBD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D8BD-509D-4CB5-9D28-838FB2224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74FC-32E1-4A89-AF0D-65CB2DB1B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7AF1-9271-4A3E-8635-EDE7E2D35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EC57-A81E-4415-B5FC-AF7FF5106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7C1E-C793-4308-8B98-0873B302A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66ED-F27E-42D2-9233-E8BBCE21E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8C26-5A44-448B-8736-0D5C68FFE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07EB-5C07-4081-BD94-8D3F7D426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B87D-FAE5-4D9B-B22A-33D8E8AEE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0217-9DB9-49BC-9557-AC25D1E81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F0F43-EBED-45A3-9DFD-89A4C5B210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何等深情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rciful Love 1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C:\Documents and Settings\Administrator\桌面\再次将我更新\繁体中英PPT\何等深情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何等深情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rciful Love 2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C:\Documents and Settings\Administrator\桌面\再次将我更新\繁体中英PPT\何等深情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何等深情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rciful Love 3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" descr="C:\Documents and Settings\Administrator\桌面\再次将我更新\繁体中英PPT\何等深情\何等深情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endy</cp:lastModifiedBy>
  <dcterms:modified xsi:type="dcterms:W3CDTF">2010-06-15T06:04:38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