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1C2-6A73-41EB-AE8B-2E0577B1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DC8-05B5-4CAB-B008-59DBA749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A7A-72B6-472C-B2E2-458A9845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340-960D-4146-9F42-83F7D1F6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3B7-8936-45F8-AC9E-C0C00D83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7F5D-601C-4CB8-AA6F-EC479480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BF4-5609-4D30-8A2B-E02BC6D0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B05-F3E7-4EF3-BE5E-98DA6DB9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2B9-E00E-4715-AEB5-387FA21D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620-42CC-4011-8E80-D622769F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B2D-304A-4F06-8F18-AC160443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220-2839-40C3-ADA9-7A1A7B16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86FD75F-02FC-48CC-A6C7-A16B8C4A31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-13320" y="477000"/>
            <a:ext cx="914796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亙古的愛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385720"/>
            <a:ext cx="914364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文本框 2"/>
          <p:cNvSpPr/>
          <p:nvPr/>
        </p:nvSpPr>
        <p:spPr>
          <a:xfrm>
            <a:off x="720" y="2061360"/>
            <a:ext cx="9171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ETERNAL LO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0" y="5772240"/>
            <a:ext cx="914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宋体"/>
              </a:rPr>
              <a:t>中文歌詞中的「他」汎指人類，包括了亞當和夏娃，男人和女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3" name="文本框 4"/>
          <p:cNvSpPr/>
          <p:nvPr/>
        </p:nvSpPr>
        <p:spPr>
          <a:xfrm>
            <a:off x="0" y="477000"/>
            <a:ext cx="913356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在那美麗的新天新地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See, the new earth and heaven are her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再無死亡 也沒有哭泣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Gone is all death, and gone are all tear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羔羊和新婦從此快樂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e Lamb and bride, together at las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永遠在一起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Eternally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9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0" y="748080"/>
            <a:ext cx="9182880" cy="57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許久以前祂有個夢想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Long in the past, it came to God's mi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為自己造了一個新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at He'd create a virtuous brid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將他安置浩瀚的宇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美麗的地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make a world on which she would thriv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In paradise.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720" y="405000"/>
            <a:ext cx="915120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起涼風晨昏或日落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ow He'd enjoy the cool of the day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他倆同行在伊甸園中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When He would walk that beautiful pl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直到有天他聽信讒言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With His true love! -- till she bought a l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人永隔絕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at tore her awa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0" y="838080"/>
            <a:ext cx="9143640" cy="53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噢 但祂心深愛著他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Oh, in His heart He loved her so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怎能就此遺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just forget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abandon His brid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016760" y="6382440"/>
            <a:ext cx="21268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8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0" y="405000"/>
            <a:ext cx="915372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So He said, "To My cherished one I'll go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blood I'll redeem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水將他洗淨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water wash cle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My beloved and she will be Mine."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0" y="477000"/>
            <a:ext cx="9143640" cy="51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如此的愛將石心融化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is act of love performed for her sak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痛悔的心再次屬於祂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Melted her heart; her soul was awak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靈魂甦醒他甘心樂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Freed from her guilt, and brimming with joy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跟隨祂到底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is hand she would tak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0" y="477000"/>
            <a:ext cx="914364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再過不久 號角要響起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before long, the trumpet shall sound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榮耀新郎 要駕雲降臨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Calling the bride, caught up in the cloud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要接他回到父家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Bringing her home, to where she belong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永不再分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e Father's hous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4"/>
          <p:cNvSpPr/>
          <p:nvPr/>
        </p:nvSpPr>
        <p:spPr>
          <a:xfrm>
            <a:off x="9360" y="838080"/>
            <a:ext cx="913428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噢 因祂心深愛著他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Oh, in His heart He loved her so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不能就此遺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just forget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abandon His brid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7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7016760" y="6382440"/>
            <a:ext cx="21268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8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0" y="405000"/>
            <a:ext cx="915372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So He said, "To My cherished one I'll go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blood I'll redeem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水將他洗淨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water wash cle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My beloved and she will be Mine."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  <Words>762</Words>
  <Paragraphs>1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1:37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10</vt:r8>
  </property>
</Properties>
</file>