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9102-A9F2-4A51-B98A-A0DEC06BE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32B6-7A83-45CA-A659-2FAAF91C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B72F-F3A8-47F1-8D22-061558A14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6FFB-C7EB-4289-B868-6D8F96F70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19A5-375A-4E1C-9152-DDC5F60D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06AE-B87E-4950-9540-9C1D35A5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471A-A580-4E3C-9A23-163B3917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7CC1-667A-43AA-8B9A-E1EB5E36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C764-6867-43BF-8491-74F5B058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5A07-8EAD-451B-9D0F-279E8461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DD57-ECFF-4AAF-ACEB-5346498C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D1A7-5539-4D1B-ADBF-0FC56E71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6BF5-14FE-4092-BB8B-1B21B5AE2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主啊，誰人親像你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C:\Documents and Settings\Administrator\桌面\主啊,誰人親像祢\繁体\6. 主啊，誰人親像祢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主啊，誰人親像你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C:\Documents and Settings\Administrator\桌面\主啊,誰人親像祢\繁体\6. 主啊，誰人親像祢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主啊，誰人親像你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" descr="C:\Documents and Settings\Administrator\桌面\主啊,誰人親像祢\繁体\6. 主啊，誰人親像祢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36:5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