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EBD-F3DD-4BC4-877C-90E1CFFD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BCF-592C-4346-A478-DC19BCB7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F4D-C46B-4D82-A1A6-FCF1A488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E91-021F-4A0D-A329-648C0B60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695-A470-4EC4-B025-56397A16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93D-68DC-4DA0-9B6C-7F8396F4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8A9-CEC3-4242-9E53-C20AFB03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10F-CF9C-4309-B949-4011B243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BD3-B4DF-4B76-BCAA-4D363872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9CA-6C49-468F-BE23-CBD466C3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449-10FA-4E06-96C7-332AB945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937-6C5E-4FE0-8203-EFCF7211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8143-21E2-4EFA-9942-AED11F2361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我们自卑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主啊，我们自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我们自卑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主啊，我们自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7:56Z</dcterms:modified>
  <cp:revision>5</cp:revision>
  <dc:subject/>
  <dc:title>幻灯片 1</dc:title>
</cp:coreProperties>
</file>