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CA43-0474-4055-ADC0-164F1FC9C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E145-EA6F-469B-A66C-0AE8E330D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12CD-8B69-471C-99EE-2CC648213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ED1A-E6E3-4E21-BB05-BEA5F917D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D02A-144C-498A-BC47-8280B1A77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A425-1443-4A2C-9EE4-D4AFD425D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6F92-4A70-44F7-90C3-3CC6C64DA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2164-03C8-479E-909F-4BA50AC45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5718-3410-4DA8-BCD7-74CAA727C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D42D-BD8A-493D-ADEE-BD58B323B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B138-A822-4538-B4B7-F8C4D6EBD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170C-C318-4F7C-A205-1C8723969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32B72-7AE0-47C6-AA75-2E970A636A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主，我相信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1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43" name="Picture 2" descr="E:\music\诗歌\PPT\2\主，我相信\主，我相信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主，我相信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2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E:\music\诗歌\PPT\2\主，我相信\主，我相信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主，我相信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3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E:\music\诗歌\PPT\2\主，我相信\主，我相信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主，我相信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4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E:\music\诗歌\PPT\2\主，我相信\主，我相信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1T15:52:51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