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17BA-A361-4074-8ED8-DC677A693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A509-ECDD-42CE-BA91-85157A32D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73B6-A71F-4A42-93A7-69069D34B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DAD8-A5C1-449A-85A6-E9E61DB59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6042-E965-4A3B-ABA1-5B414110C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5C66-3CDD-4608-9A15-2CE60B216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E133-5D29-46AA-955D-92AD48E49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2842-42AB-449C-90A3-9EFCD72F2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88BD-59EF-44A7-8FFD-D376C8F10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1516-DAF4-4003-9AEB-7CEC4C4C2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9049-87C8-428A-8E85-6840092A1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9755-19AA-4E60-BCC2-8E84FABF7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77220-803C-47C7-BE5A-B8FCE207D5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黑体"/>
                <a:ea typeface="黑体"/>
              </a:rPr>
              <a:t>一首簡單的歌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J:\圣洁活祭\繁体\一首簡單的歌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黑体"/>
                <a:ea typeface="黑体"/>
              </a:rPr>
              <a:t>一首簡單的歌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J:\圣洁活祭\繁体\一首簡單的歌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黑体"/>
                <a:ea typeface="黑体"/>
              </a:rPr>
              <a:t>一首簡單的歌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J:\圣洁活祭\繁体\一首簡單的歌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黑体"/>
                <a:ea typeface="黑体"/>
              </a:rPr>
              <a:t>一首簡單的歌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J:\圣洁活祭\繁体\一首簡單的歌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1-05-19T06:52:30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