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8D2-D1E4-40BF-B69F-1D26264C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887-A2E4-4178-AEB0-A89F87EEC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E5DD-E266-468A-9FA5-49256A779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7D9-B03C-4B60-9937-D7CB7C621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favorit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1Z</dcterms:modified>
  <cp:revision>30</cp:revision>
  <dc:subject/>
  <dc:title>You Are My Favorite</dc:title>
</cp:coreProperties>
</file>