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0AB-D3C7-4FD4-998E-29A6B1DE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33E-4C5F-44BF-8EE2-58A70C06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DFF9-0253-42DB-B7BC-EFA7C766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7Z</dcterms:modified>
  <cp:revision>31</cp:revision>
  <dc:subject/>
  <dc:title>You Are My Favorite</dc:title>
</cp:coreProperties>
</file>