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214-C44E-4E09-8E91-45A3A364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45F-6BF3-4444-ADD7-9C01521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DC0-E3A9-4754-AF43-9107B592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2FA-9CF0-4020-B11A-591FD420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FA6-3EB6-44B4-93CC-2A0B4901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62D-0FCA-4EA0-9D41-A6D639C2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E7B-A6DE-43DB-B233-2E0C2EF9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F25-2364-459F-97FE-05AAE61F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BCE-362E-4620-BBFC-E5A1A90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AC4-8640-4423-ABAE-8DA42F1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977-A09B-4E26-866F-8CC05C4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271-0441-43AB-921D-155129E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28FF-BC71-4DB4-AE3F-6ACE892F5B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You Are My Favorite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tie 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You Are My Favorite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02Z</dcterms:modified>
  <cp:revision>4</cp:revision>
  <dc:subject/>
  <dc:title>幻灯片 1</dc:title>
</cp:coreProperties>
</file>