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天父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天父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天父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的天父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23Z</dcterms:modified>
  <cp:revision>13</cp:revision>
  <dc:subject/>
  <dc:title>我的天父</dc:title>
</cp:coreProperties>
</file>