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999D-2391-43B6-8884-51D90C6C9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518D-5641-4AE7-B71A-EC1732168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29E3-7EF6-4441-9EA8-32A49116E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7CEC-FAA0-4C3B-8C14-A182C985C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EB8A-CBAD-4A26-8127-F50FE96E5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CC56-11A3-466C-9A43-88ECF974E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C0A0-EB5B-4B98-8CFA-BD85B6D1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BDD0-F0CF-4098-895A-0E63672E4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AAF1-75D0-44C5-A3C7-8B40598A8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21E5-A53A-4F75-9972-D9CECC1D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3FC0-5308-434E-9092-5DCB7A19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DE1C-A9A4-48D3-A22D-1C8EE3CE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9E99E-0F13-46AB-AABB-B8EB27E8D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主我邀请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鼓舞\主我邀请你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主我邀请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鼓舞\主我邀请你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主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邀请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鼓舞\主我邀请你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</cp:lastModifiedBy>
  <dcterms:modified xsi:type="dcterms:W3CDTF">2010-06-15T06:17:4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