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啊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有誰能像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啊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有誰能像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啊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有誰能像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9:54Z</dcterms:modified>
  <cp:revision>21</cp:revision>
  <dc:subject/>
  <dc:title>主啊, 有誰能像你</dc:title>
</cp:coreProperties>
</file>