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0610-1DC2-4B78-B918-D677274CF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5F46-8F30-4742-B068-24B1EB04A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01A3-DD6D-4392-947B-D443285B6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ECAD-6ACF-4F82-BD91-0503E19AF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7EBC-1A6C-4E91-B723-6CB7A4ADB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CBDF-F28E-4416-82CA-1A0FF688A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52A3-D50D-4B15-B47F-198FCA9B5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DACF-3242-401B-9D5C-6999B479E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3568-6E30-4873-A399-D7F57692E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90F3-8825-44A3-A187-B68F79C55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8118-9CF3-487A-A727-5B494478F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C174-0515-492C-8158-9C8170C1C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562F4-8179-4E20-B434-AD2556CF023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你的爱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/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1" descr="E:\music\诗歌\PPT\2\盟约\你的爱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你的爱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/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1" descr="E:\music\诗歌\PPT\2\盟约\你的爱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你的爱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/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1" descr="E:\music\诗歌\PPT\2\盟约\你的爱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你的爱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4/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" descr="E:\music\诗歌\PPT\2\盟约\你的爱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06:12:06Z</dcterms:created>
  <dc:creator>YYC</dc:creator>
  <dc:description/>
  <dc:language>en-US</dc:language>
  <cp:lastModifiedBy>微软用户</cp:lastModifiedBy>
  <dcterms:modified xsi:type="dcterms:W3CDTF">2010-06-13T14:32:43Z</dcterms:modified>
  <cp:revision>4</cp:revision>
  <dc:subject/>
  <dc:title>幻灯片 1</dc:title>
</cp:coreProperties>
</file>