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6F44-F108-4D02-8418-6DE92493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76CF-357C-44A4-BE5F-1B09E8B5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6501-1E0B-4476-9925-B98C848D1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0395-6BD1-4477-A4AB-22BD58A3A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857B-BCF7-4199-8F70-CEDDD43F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0B1D-5C38-4544-9270-78135D65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8411-21E5-4554-9D51-05EFD277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F7C8-16BF-4948-8D14-FA92A5C6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80B8-3BE6-43D2-B887-D2A46400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EC70-6E73-45BD-BAD7-D915563A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8301-7E9C-4C54-80FE-10ED1FF9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A1D2-F82F-410E-B1E2-89DBB7A3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F408-33D3-4197-812A-8E338A0506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盟约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盟约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盟约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盟约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盟约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盟约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盟约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盟约\盟约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盟约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E:\music\诗歌\PPT\2\盟约\盟约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7:22Z</dcterms:modified>
  <cp:revision>4</cp:revision>
  <dc:subject/>
  <dc:title>幻灯片 1</dc:title>
</cp:coreProperties>
</file>