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288-5524-48EE-AD72-64785FA7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148-C6C3-4CDF-972D-449F66EE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9BF-B340-4348-908D-4F561196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5A04-F556-4BC8-96EC-065CDD79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FC8-AB50-477A-A40C-14F40278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C380-9583-4AEF-A967-B6064E5D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F6E-230C-4AE2-B36A-E6182CE1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2290-E0E8-469F-81A2-5FBB7A32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9DE-E6B3-40A4-8507-CD9CABD6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B07-EC1C-4D6B-A8F7-D5E91127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78C-6AFB-4034-B967-9CAE7AED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A16-04FE-4564-9B41-C948CDB1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501D-31DC-4D72-87BB-7BDE63BC70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是谁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是谁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是谁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是谁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E:\music\诗歌\PPT\2\盟约\是谁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4:37Z</dcterms:modified>
  <cp:revision>4</cp:revision>
  <dc:subject/>
  <dc:title>幻灯片 1</dc:title>
</cp:coreProperties>
</file>