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EE4-658B-4F8C-92C9-C11666FF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ACE-6808-42EE-A04D-EEAC1892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6B3-7D9B-4625-A2BE-97A78F57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FEC-E1CF-4D56-89E5-7465789A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497-0C6B-4F57-AB84-77E0CA29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CD4-B39F-402C-A603-3886D4C4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D03-DEAA-4FC0-8FF5-B4488268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5E1-1EC0-42C6-BD6F-2EE79570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416-6B83-400C-8346-03662983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C8D-9303-43C1-A60C-1FE24375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7AC-F92D-455A-9CEC-D5BAE176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BF4-09AA-4B8B-BF9F-0727ADE3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271B-B896-4078-8B95-4A8BCE61A6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我是你所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我是你所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我是你所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7:51Z</dcterms:modified>
  <cp:revision>4</cp:revision>
  <dc:subject/>
  <dc:title>幻灯片 1</dc:title>
</cp:coreProperties>
</file>