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7D0-AB32-434B-B631-3BF8E0A8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FFF-79E2-42EF-AF7B-D53A33D6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15A-3095-4E44-B2E8-70664DCE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B84-7F09-4A0B-A4EF-71D6FF7E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A1A-5339-4AEF-9665-597C44D3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A65-9F5E-4A17-9413-5C72C81F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C0C-2D9C-424F-8CE8-DEDF9E3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85E-9673-4053-8EC4-1596C061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4B8-8580-4F42-B17E-AE08D8A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90E-86F0-4E4A-9849-D076DF9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417-7622-4BB6-A363-E6B3744B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2B4-46E8-4F15-82D3-EFDA6EA9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6101-C3F6-4BFF-8CCD-D81AADF2A1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心属于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心属于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心属于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Wendy</cp:lastModifiedBy>
  <dcterms:modified xsi:type="dcterms:W3CDTF">2010-06-15T05:25:40Z</dcterms:modified>
  <cp:revision>5</cp:revision>
  <dc:subject/>
  <dc:title>幻灯片 1</dc:title>
</cp:coreProperties>
</file>