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CE8-6780-4AC7-AAEE-1449D732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610-95FE-46E7-92F8-1AEBA53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51E-550D-4E44-B023-2FD8A3E1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DDD-B3DD-4296-BAC1-8EB5829E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15E-53BE-470D-BE96-2A02D96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B33-5EA3-49F7-A727-729169BF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4E9-3B1A-4381-9A1D-DA85BAB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044-F838-45E4-B2F0-9139BA0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ED5-13B6-4BE3-9F70-AE563EBD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892-DC35-4BE8-BBF6-3416A01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C80-32D4-456C-92B3-79858B1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708-EA39-45D6-8C9E-42717F5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FB5-DC3F-490C-B4D0-DDFB48E41E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因此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因此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因此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3:23Z</dcterms:modified>
  <cp:revision>4</cp:revision>
  <dc:subject/>
  <dc:title>幻灯片 1</dc:title>
</cp:coreProperties>
</file>