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F3A-B82C-484F-A4EA-662AF588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6A1-9A3B-457C-9F95-014D39BD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3D0-9DC9-489D-A437-736A75C6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6F8-1381-49FC-8F18-D75B0632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2CD-4DDB-4A1D-B0DA-E139ED7E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47A-3AE0-4605-BC04-8877BB12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008-5C2D-4576-A32D-875EE8EB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101-699B-4ACC-A753-21375F3D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D88-6BE4-4E57-A3C7-BF3C333B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ECC-A16C-4DBE-B239-DFC52324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C8A-B302-4E0D-B50A-DEB0BD7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10A-D3E0-4946-9D49-88DA2B26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D73E-7049-440A-8525-C964FBD85B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主啊，有谁能像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主啊，有谁能像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主啊，有谁能像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06Z</dcterms:modified>
  <cp:revision>4</cp:revision>
  <dc:subject/>
  <dc:title>幻灯片 1</dc:title>
</cp:coreProperties>
</file>